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1D9D-9C26-4821-8CEA-6998F51AC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EB6E94-2723-46C7-B6F6-4A9DAAECDF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3AC9AA-73C2-4F76-BD55-E07FAA3E7D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032511-D189-4D01-9703-7980A6048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54F4DB-E262-4CD6-BBE6-2678FC4A0D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5607F4-B139-4E4F-834B-3208B051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BAD04D-6F81-4425-ACAB-154E71CAC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D7D03E2-82E6-46F1-B5E6-7477B885A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A53D87-C06D-48A9-ABE1-D5FE44FC0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CC7CCA-BCA8-40B9-B71A-0FFF4A70A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FE4C40-594A-432C-BCBD-5FD753AC5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495F70-1C03-4D6C-8EE2-9FB78845BE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1A902-BCD7-4EE5-BF22-06EF2D660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30E41-F0ED-4466-9C89-268B4CA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6865E6-BCD5-4842-9592-7EF9FFCF9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AA73E-F55C-4CBA-8BBE-068C83ACC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F9D9B-16BE-4FBB-8DBE-99DD83EF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EFCA7-734C-43F1-AC00-0F7FB1E482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BF3FB-83CD-41ED-AEF6-6EDFE2DE06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79EC1-D8F1-4451-AE89-2B7A63432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CECD1E-AAB5-4026-84D6-A1937BB3FF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D6DAB4-D0BF-44C3-81FF-0581AE03EA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467ED-5FB4-47D5-84C4-3A540B07B4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26C75C-F6F8-4BAF-97C4-B7E006CC2F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1"/>
          </p:nvPr>
        </p:nvSpPr>
        <p:spPr>
          <a:xfrm>
            <a:off x="-360" y="63244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D564B-0D3F-4BFC-A0E9-C702106A7160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8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49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2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3"/>
          </p:nvPr>
        </p:nvSpPr>
        <p:spPr>
          <a:xfrm>
            <a:off x="468000" y="6248520"/>
            <a:ext cx="2808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0855-23B9-4E9C-8558-BE25719C3EE6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4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华东师范大学计算机应用专业讲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5"/>
          </p:nvPr>
        </p:nvSpPr>
        <p:spPr>
          <a:xfrm>
            <a:off x="6659280" y="6524280"/>
            <a:ext cx="2103480" cy="1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77C94-CA9F-45EA-99F9-27B151211333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4"/>
          <p:cNvSpPr/>
          <p:nvPr/>
        </p:nvSpPr>
        <p:spPr>
          <a:xfrm>
            <a:off x="468360" y="62485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33811-9F3C-4F70-BE13-17E14285FD21}" type="datetime">
              <a:rPr b="0" lang="zh-CN" sz="1400" spc="-1" strike="noStrike">
                <a:solidFill>
                  <a:srgbClr val="1c1c1c"/>
                </a:solidFill>
                <a:latin typeface="Tahoma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5"/>
          <p:cNvSpPr/>
          <p:nvPr/>
        </p:nvSpPr>
        <p:spPr>
          <a:xfrm>
            <a:off x="34290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华东师范大学计算机应用专业讲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3"/>
          <p:cNvSpPr/>
          <p:nvPr/>
        </p:nvSpPr>
        <p:spPr>
          <a:xfrm>
            <a:off x="1143000" y="23493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《</a:t>
            </a: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存储技术基础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4"/>
          <p:cNvSpPr/>
          <p:nvPr/>
        </p:nvSpPr>
        <p:spPr>
          <a:xfrm>
            <a:off x="1476360" y="98100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专业选修课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5"/>
          <p:cNvSpPr/>
          <p:nvPr/>
        </p:nvSpPr>
        <p:spPr>
          <a:xfrm>
            <a:off x="3059280" y="4508640"/>
            <a:ext cx="5689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主讲：陈蕾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讲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网络与通信教研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6"/>
          <p:cNvSpPr/>
          <p:nvPr/>
        </p:nvSpPr>
        <p:spPr>
          <a:xfrm>
            <a:off x="6643800" y="2357280"/>
            <a:ext cx="1785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a50021"/>
                </a:solidFill>
                <a:latin typeface="Arial"/>
              </a:rPr>
              <a:t>简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vie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68000" y="2492280"/>
            <a:ext cx="35341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700360" y="3789000"/>
            <a:ext cx="46800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如有疑问，请联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chen@cs.ecnu.edu.c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Rectangle 4"/>
          <p:cNvSpPr/>
          <p:nvPr/>
        </p:nvSpPr>
        <p:spPr>
          <a:xfrm>
            <a:off x="3492360" y="2997360"/>
            <a:ext cx="2379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68000" y="2492280"/>
            <a:ext cx="3534120" cy="23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Wh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920" y="617040"/>
            <a:ext cx="38527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Why</a:t>
            </a:r>
            <a:r>
              <a:rPr b="0" lang="zh-CN" sz="48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8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428760" y="2714760"/>
            <a:ext cx="81439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应用领域需要存储和管理的数据量急剧膨胀，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2012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年，全球将需要新增一百万以上熟练的存储和信息管理人员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428760" y="2928960"/>
            <a:ext cx="7993080" cy="26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通过本课程的学习，学生能拓宽知识面，为日后在企业或政府机关进行信息管理的规划、决策等方面的工作打下基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28400" y="2785680"/>
            <a:ext cx="7988040" cy="23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同时也为参加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C Associate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级别认证做准备。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EMC Proven 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专家认证计划是业界第一的存储和信息管理认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y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42600" y="2143080"/>
            <a:ext cx="79614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英文能力尤其是专业领域的听、说、读、写能力都具有非常重要的意义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存储和信息管理的工作场合，文档大多数是英文的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4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有相当机会与国际同行交流、接触，这种交流有时甚至带有强制性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14200" y="2286000"/>
            <a:ext cx="8715600" cy="39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现代信息管理的复杂度与需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存储系统的基本结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网络存储应用于不同环境的构架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应对业务连续性需求的存储技术解决方案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数据中心的监测、管理的原理、方法与实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434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10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10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285480" y="2642760"/>
            <a:ext cx="8281800" cy="27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如何做出涉及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SAN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A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AS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P-SAN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、备份和恢复、业务连续性、安全和虚拟化等多种技术的决策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150560" y="617040"/>
            <a:ext cx="4349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（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zh-CN" sz="4400" spc="-1" strike="noStrike">
                <a:solidFill>
                  <a:srgbClr val="333399"/>
                </a:solidFill>
                <a:latin typeface="Tahoma"/>
              </a:rPr>
              <a:t>）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68000" y="2142720"/>
            <a:ext cx="8280360" cy="431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所用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讲义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以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C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的培训讲义为基础进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暂不特设实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强调案例分析和学生讨论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至少有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学时为尝试性全英文教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学时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，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学分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期末</a:t>
            </a:r>
            <a:r>
              <a:rPr b="0" lang="zh-CN" sz="2800" spc="-1" strike="noStrike">
                <a:solidFill>
                  <a:srgbClr val="ff0000"/>
                </a:solidFill>
                <a:latin typeface="Tahoma"/>
              </a:rPr>
              <a:t>考核方式</a:t>
            </a:r>
            <a:r>
              <a:rPr b="0" lang="zh-CN" sz="2800" spc="-1" strike="noStrike">
                <a:solidFill>
                  <a:srgbClr val="000000"/>
                </a:solidFill>
                <a:latin typeface="Tahoma"/>
              </a:rPr>
              <a:t>为考试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总成绩＝期末考试成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7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％＋平时成绩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×30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注：</a:t>
            </a: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平时成绩可以一定映射关系反映实验成绩及考勤情况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150920" y="617400"/>
            <a:ext cx="219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How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ei</dc:creator>
  <dc:description/>
  <dc:language>en-US</dc:language>
  <cp:lastModifiedBy>lei</cp:lastModifiedBy>
  <dcterms:modified xsi:type="dcterms:W3CDTF">2009-12-15T01:37:03Z</dcterms:modified>
  <cp:revision>296</cp:revision>
  <dc:subject/>
  <dc:title>PowerPoint Presentation</dc:title>
</cp:coreProperties>
</file>