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ffcc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1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1042920" y="2060640"/>
            <a:ext cx="6985080" cy="1873080"/>
          </a:xfrm>
          <a:prstGeom prst="rect">
            <a:avLst/>
          </a:prstGeom>
          <a:solidFill>
            <a:srgbClr val="0066cc">
              <a:alpha val="40000"/>
            </a:srgbClr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24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Verdana"/>
              </a:rPr>
              <a:t>《</a:t>
            </a:r>
            <a:r>
              <a:rPr b="1" lang="zh-CN" sz="4000" spc="-1" strike="noStrike">
                <a:solidFill>
                  <a:srgbClr val="ffcc00"/>
                </a:solidFill>
                <a:latin typeface="Verdana"/>
              </a:rPr>
              <a:t>XML</a:t>
            </a:r>
            <a:r>
              <a:rPr b="1" lang="zh-CN" sz="4000" spc="-1" strike="noStrike">
                <a:solidFill>
                  <a:srgbClr val="ffcc00"/>
                </a:solidFill>
                <a:latin typeface="Verdana"/>
              </a:rPr>
              <a:t>技术与应用》课程介绍</a:t>
            </a: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250920" y="260280"/>
            <a:ext cx="8569080" cy="792360"/>
          </a:xfrm>
          <a:prstGeom prst="rect">
            <a:avLst/>
          </a:prstGeom>
          <a:solidFill>
            <a:srgbClr val="0066cc">
              <a:alpha val="40000"/>
            </a:srgbClr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Verdana"/>
              </a:rPr>
              <a:t>课程概况</a:t>
            </a: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课程性质：专业选修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课时数：每周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课时课堂教学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期末成绩评定：平时成绩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40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％，期末考试成绩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60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％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50920" y="260280"/>
            <a:ext cx="8569080" cy="792360"/>
          </a:xfrm>
          <a:prstGeom prst="rect">
            <a:avLst/>
          </a:prstGeom>
          <a:solidFill>
            <a:srgbClr val="0066cc">
              <a:alpha val="40000"/>
            </a:srgbClr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Verdana"/>
              </a:rPr>
              <a:t>课程内容介绍</a:t>
            </a: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XML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Extensible Markup Language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）可扩展标记语言；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XML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的应用重点是管理信息的数据本身，描述信息的结构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XML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标准及相关的技术，包括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XML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规范、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DTD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XML Schema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XML Namespace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XSL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，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xPath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等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在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XML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技术标准基础上的应用程序开发模式和相关技术发展新方向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569080" cy="792360"/>
          </a:xfrm>
          <a:prstGeom prst="rect">
            <a:avLst/>
          </a:prstGeom>
          <a:solidFill>
            <a:srgbClr val="0066cc">
              <a:alpha val="40000"/>
            </a:srgbClr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Verdana"/>
              </a:rPr>
              <a:t>课程内容介绍</a:t>
            </a: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900000" y="1268280"/>
            <a:ext cx="7488360" cy="536112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50920" y="260280"/>
            <a:ext cx="8569080" cy="792360"/>
          </a:xfrm>
          <a:prstGeom prst="rect">
            <a:avLst/>
          </a:prstGeom>
          <a:solidFill>
            <a:srgbClr val="0066cc">
              <a:alpha val="40000"/>
            </a:srgbClr>
          </a:solidFill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00"/>
                </a:solidFill>
                <a:latin typeface="Verdana"/>
              </a:rPr>
              <a:t>课程学习目的和意义</a:t>
            </a:r>
            <a:endParaRPr b="1" lang="en-US" sz="4000" spc="-1" strike="noStrike">
              <a:solidFill>
                <a:srgbClr val="ffcc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2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充分认识标记语言的重要性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通过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XML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技术的学习掌握使用标记语言的基本技能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了解与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XML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技术相关应用的最新发展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strips dir="lu"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3T06:52:48Z</dcterms:created>
  <dc:creator/>
  <dc:description/>
  <dc:language>en-US</dc:language>
  <cp:lastModifiedBy>推荐书</cp:lastModifiedBy>
  <dcterms:modified xsi:type="dcterms:W3CDTF">2008-11-30T06:57:21Z</dcterms:modified>
  <cp:revision>121</cp:revision>
  <dc:subject/>
  <dc:title>此处是标题</dc:title>
</cp:coreProperties>
</file>