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81FC08-F1E8-466C-BFFB-690FF61D0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419E0-CDCB-4420-89D0-9E469063E7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4266ED-735C-450F-90F4-C43B54F00A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0EA00F-11B0-40A5-9998-40C8ED24A2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4C7934-2E5E-4608-8F3C-A8D35E7D4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3EDECF-BE1C-435D-A280-65140EE7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9DD554-7519-4CCB-A483-2B99C502A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DC04C-1EB4-4534-B11E-4C7FB60C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D51337-CE6B-4A10-8710-6F44D1F71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0C9263-8E98-4A2D-83EC-F6AA5D539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E6FDC7-AC88-4E95-864D-5A225A71C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769E14-3719-4B70-A8BF-3A31406A25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A202D-95D5-4E08-94FA-7E5A5DED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34874-AAC1-4C8B-8748-8C8EAB56A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52A5B-2764-4BA5-979A-9FAD8AA9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BD5BB8-0239-4100-8A86-5B409013B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933C7C-FD7E-46F4-968C-B248D860F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A76B9F-2707-46D0-85F4-0929601836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DDC15-CC97-47B7-9282-399128D490E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46983-17C9-4821-90DC-2A6E3F6F77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10433-1BA3-481C-AC8B-2870FD61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E225D-A9AD-4D62-8481-D964D6C1C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DAD460-28D0-4FDE-AAA3-F68E30FB3F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25A18-0A10-468F-A9B1-8A8E4F940E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264960" y="6248520"/>
            <a:ext cx="8190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仿宋_GB2312"/>
                <a:ea typeface="仿宋_GB2312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2007</a:t>
            </a:r>
            <a:r>
              <a:rPr b="0" lang="en-US" sz="14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年教育部中职骨干教师培训 ※ 华东师范大学 ※ 计算机网络技术专业 ※《计算机网络工程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E54A-C26E-49C0-97E1-1DCE6DFDF56A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Freeform 7"/>
          <p:cNvSpPr/>
          <p:nvPr/>
        </p:nvSpPr>
        <p:spPr>
          <a:xfrm rot="10800000">
            <a:off x="452520" y="642240"/>
            <a:ext cx="8229600" cy="60948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8"/>
          <p:cNvSpPr/>
          <p:nvPr/>
        </p:nvSpPr>
        <p:spPr>
          <a:xfrm>
            <a:off x="1981080" y="4470480"/>
            <a:ext cx="65120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007</a:t>
            </a:r>
            <a:r>
              <a:rPr b="0" lang="en-US" sz="1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年教育部中职骨干教师培训 ※ 华东师范大学 ※ 计算机网络技术专业 ※《计算机网络工程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EBADB-1D4B-4FD3-928A-73215C68A60E}" type="slidenum">
              <a:rPr b="0" lang="en-U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《</a:t>
            </a:r>
            <a:r>
              <a:rPr b="1" lang="zh-CN" sz="5000" spc="-1" strike="noStrike">
                <a:solidFill>
                  <a:srgbClr val="ffffff"/>
                </a:solidFill>
                <a:latin typeface="Garamond"/>
              </a:rPr>
              <a:t>计算机网络工程</a:t>
            </a:r>
            <a:r>
              <a:rPr b="1" lang="en-US" sz="5000" spc="-1" strike="noStrike">
                <a:solidFill>
                  <a:srgbClr val="ffffff"/>
                </a:solidFill>
                <a:latin typeface="Garamond"/>
              </a:rPr>
              <a:t>》</a:t>
            </a:r>
            <a:endParaRPr b="1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695240" y="3556080"/>
            <a:ext cx="65530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Arial"/>
              </a:rPr>
              <a:t>课程简介</a:t>
            </a:r>
            <a:endParaRPr b="1" lang="en-US" sz="5400" spc="-1" strike="noStrike">
              <a:solidFill>
                <a:srgbClr val="ffff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信息学院计算机系</a:t>
            </a:r>
            <a:endParaRPr b="1" lang="en-US" sz="3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AF4F9-6ED1-4990-96F9-A28A43270ABE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概述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以组建计算机网络为核心任务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涉及计算机网络工程实施过程中的规划、设计、设备选型、设备安装与配置、管理与维护等阶段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还包括常见网络服务的建立、网络安全技术等与网络工程密切相关的内容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强调理论与实践的紧密结合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AE84-E1C7-4D96-A899-0B1B5740AA44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目标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掌握计算机网络工程涉及的重要原理和理论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掌握主要网络设备的工作原理和使用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掌握常用网络服务的建立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掌握一个网络工程师所必需的基础理论和技术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通过该课程的学习，能够自己设计、组建和管理计算机网络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B8E8A-9561-4CA6-9A13-07960CAD59BE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内容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主要内容：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概述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2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以太网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广域网和网络接入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4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网络的互连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5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网络服务的建立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6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网络管理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7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网络安全技术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第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2600" spc="-1" strike="noStrike">
                <a:solidFill>
                  <a:srgbClr val="ffff00"/>
                </a:solidFill>
                <a:latin typeface="Arial"/>
              </a:rPr>
              <a:t>章 网络的规划和实施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4943A-AA0E-4234-BB47-A2BD5D932C3F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安排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29920"/>
            <a:ext cx="8229600" cy="523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讲课：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6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课时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实验：总共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1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个实验，要求独立完成，并提交实验报告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6E208-6E1A-44A2-AD5F-A7211343EA8F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实验内容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39560" y="1337760"/>
            <a:ext cx="8229600" cy="499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双绞线电缆的制作及简单以太网组网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交换机的初步使用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交换机中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配置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4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通过三层交换机实现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LAN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间路由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5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路由器的使用 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6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路由器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NAT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配置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7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广域网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VOIP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综合实验（分两周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8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组建无线局域网 （分两周）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9. IIS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的配置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0.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使用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DHCP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自动分配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IP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地址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实验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11.DNS</a:t>
            </a:r>
            <a:r>
              <a:rPr b="1" lang="zh-CN" sz="2400" spc="-1" strike="noStrike">
                <a:solidFill>
                  <a:srgbClr val="ffff00"/>
                </a:solidFill>
                <a:latin typeface="Arial"/>
              </a:rPr>
              <a:t>服务器的配置</a:t>
            </a:r>
            <a:endParaRPr b="1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E67B9-B119-4E99-9283-BEE46ABE215E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教材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计算机网络工程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，清华大学出版社，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4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8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月出版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计算机网络工程实验教程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，清华大学出版社，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2008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年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月出版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03A55-BE63-4D65-99F5-890291FEB9C4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网站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《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计算机网络工程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》</a:t>
            </a: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课程支持站点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ff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http://jpkc.ecnu.edu.cn/0804/</a:t>
            </a:r>
            <a:endParaRPr b="1" lang="en-US" sz="26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灯片编号占位符 4"/>
          <p:cNvSpPr/>
          <p:nvPr/>
        </p:nvSpPr>
        <p:spPr>
          <a:xfrm>
            <a:off x="7061040" y="6243480"/>
            <a:ext cx="172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4470C-39F6-4A8F-8FD6-1DABDC0BE891}" type="slidenum">
              <a:rPr b="0" lang="en-US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ffffff"/>
                </a:solidFill>
                <a:latin typeface="Garamond"/>
              </a:rPr>
              <a:t>课程考核方法</a:t>
            </a:r>
            <a:endParaRPr b="1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平时测验：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0%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实验报告：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0%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00"/>
                </a:solidFill>
                <a:latin typeface="Arial"/>
              </a:rPr>
              <a:t>期末考试：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60%</a:t>
            </a:r>
            <a:endParaRPr b="1" lang="en-US" sz="30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07:17:57Z</dcterms:created>
  <dc:creator>ecnu</dc:creator>
  <dc:description/>
  <dc:language>en-US</dc:language>
  <cp:lastModifiedBy>IBMT61</cp:lastModifiedBy>
  <dcterms:modified xsi:type="dcterms:W3CDTF">2008-12-03T02:29:19Z</dcterms:modified>
  <cp:revision>156</cp:revision>
  <dc:subject/>
  <dc:title>ecnu</dc:title>
</cp:coreProperties>
</file>