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640080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Symbol"/>
                <a:ea typeface="Symbol"/>
              </a:rPr>
              <a:t>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2002 - 2012  Lu. 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96080" y="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fld id="{23F87B63-7889-43C4-A5C0-831E5F564C71}" type="slidenum">
              <a:rPr b="1" lang="zh-CN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560" y="1371600"/>
            <a:ext cx="7975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324480"/>
            <a:ext cx="7975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380880" y="1219320"/>
            <a:ext cx="8231040" cy="4647600"/>
            <a:chOff x="380880" y="1219320"/>
            <a:chExt cx="8231040" cy="4647600"/>
          </a:xfrm>
        </p:grpSpPr>
        <p:grpSp>
          <p:nvGrpSpPr>
            <p:cNvPr id="43" name=""/>
            <p:cNvGrpSpPr/>
            <p:nvPr/>
          </p:nvGrpSpPr>
          <p:grpSpPr>
            <a:xfrm>
              <a:off x="380880" y="1219320"/>
              <a:ext cx="8231040" cy="1096200"/>
              <a:chOff x="380880" y="1219320"/>
              <a:chExt cx="8231040" cy="1096200"/>
            </a:xfrm>
          </p:grpSpPr>
          <p:sp>
            <p:nvSpPr>
              <p:cNvPr id="44" name=""/>
              <p:cNvSpPr/>
              <p:nvPr/>
            </p:nvSpPr>
            <p:spPr>
              <a:xfrm>
                <a:off x="380880" y="1226520"/>
                <a:ext cx="136440" cy="1089000"/>
              </a:xfrm>
              <a:custGeom>
                <a:avLst/>
                <a:gdLst/>
                <a:ahLst/>
                <a:rect l="l" t="t" r="r" b="b"/>
                <a:pathLst>
                  <a:path w="86" h="913">
                    <a:moveTo>
                      <a:pt x="0" y="0"/>
                    </a:moveTo>
                    <a:lnTo>
                      <a:pt x="85" y="96"/>
                    </a:lnTo>
                    <a:lnTo>
                      <a:pt x="85" y="816"/>
                    </a:lnTo>
                    <a:lnTo>
                      <a:pt x="0" y="91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3ad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474040" y="1219320"/>
                <a:ext cx="137880" cy="1085760"/>
              </a:xfrm>
              <a:custGeom>
                <a:avLst/>
                <a:gdLst/>
                <a:ahLst/>
                <a:rect l="l" t="t" r="r" b="b"/>
                <a:pathLst>
                  <a:path w="87" h="910">
                    <a:moveTo>
                      <a:pt x="86" y="0"/>
                    </a:moveTo>
                    <a:lnTo>
                      <a:pt x="0" y="93"/>
                    </a:lnTo>
                    <a:lnTo>
                      <a:pt x="0" y="813"/>
                    </a:lnTo>
                    <a:lnTo>
                      <a:pt x="86" y="909"/>
                    </a:lnTo>
                    <a:lnTo>
                      <a:pt x="86" y="0"/>
                    </a:lnTo>
                  </a:path>
                </a:pathLst>
              </a:custGeom>
              <a:solidFill>
                <a:srgbClr val="006d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80880" y="1222560"/>
                <a:ext cx="8231040" cy="122760"/>
              </a:xfrm>
              <a:custGeom>
                <a:avLst/>
                <a:gdLst/>
                <a:ahLst/>
                <a:rect l="l" t="t" r="r" b="b"/>
                <a:pathLst>
                  <a:path w="5185" h="103">
                    <a:moveTo>
                      <a:pt x="0" y="0"/>
                    </a:moveTo>
                    <a:lnTo>
                      <a:pt x="5184" y="3"/>
                    </a:lnTo>
                    <a:lnTo>
                      <a:pt x="5093" y="102"/>
                    </a:lnTo>
                    <a:lnTo>
                      <a:pt x="88" y="10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d9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" name=""/>
            <p:cNvGrpSpPr/>
            <p:nvPr/>
          </p:nvGrpSpPr>
          <p:grpSpPr>
            <a:xfrm>
              <a:off x="380880" y="1344600"/>
              <a:ext cx="8231040" cy="4522320"/>
              <a:chOff x="380880" y="1344600"/>
              <a:chExt cx="8231040" cy="4522320"/>
            </a:xfrm>
          </p:grpSpPr>
          <p:sp>
            <p:nvSpPr>
              <p:cNvPr id="48" name=""/>
              <p:cNvSpPr/>
              <p:nvPr/>
            </p:nvSpPr>
            <p:spPr>
              <a:xfrm>
                <a:off x="380880" y="1960200"/>
                <a:ext cx="125280" cy="3906720"/>
              </a:xfrm>
              <a:custGeom>
                <a:avLst/>
                <a:gdLst/>
                <a:ahLst/>
                <a:rect l="l" t="t" r="r" b="b"/>
                <a:pathLst>
                  <a:path w="79" h="3274">
                    <a:moveTo>
                      <a:pt x="0" y="0"/>
                    </a:moveTo>
                    <a:lnTo>
                      <a:pt x="78" y="107"/>
                    </a:lnTo>
                    <a:lnTo>
                      <a:pt x="78" y="3166"/>
                    </a:lnTo>
                    <a:lnTo>
                      <a:pt x="0" y="327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3ad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474040" y="1888560"/>
                <a:ext cx="133200" cy="3967560"/>
              </a:xfrm>
              <a:custGeom>
                <a:avLst/>
                <a:gdLst/>
                <a:ahLst/>
                <a:rect l="l" t="t" r="r" b="b"/>
                <a:pathLst>
                  <a:path w="84" h="3325">
                    <a:moveTo>
                      <a:pt x="83" y="0"/>
                    </a:moveTo>
                    <a:lnTo>
                      <a:pt x="3" y="109"/>
                    </a:lnTo>
                    <a:lnTo>
                      <a:pt x="0" y="3233"/>
                    </a:lnTo>
                    <a:lnTo>
                      <a:pt x="83" y="3324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6d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80880" y="5751360"/>
                <a:ext cx="8231040" cy="104760"/>
              </a:xfrm>
              <a:custGeom>
                <a:avLst/>
                <a:gdLst/>
                <a:ahLst/>
                <a:rect l="l" t="t" r="r" b="b"/>
                <a:pathLst>
                  <a:path w="5185" h="88">
                    <a:moveTo>
                      <a:pt x="0" y="87"/>
                    </a:moveTo>
                    <a:lnTo>
                      <a:pt x="5184" y="87"/>
                    </a:lnTo>
                    <a:lnTo>
                      <a:pt x="5095" y="0"/>
                    </a:lnTo>
                    <a:lnTo>
                      <a:pt x="89" y="0"/>
                    </a:lnTo>
                    <a:lnTo>
                      <a:pt x="0" y="87"/>
                    </a:lnTo>
                  </a:path>
                </a:pathLst>
              </a:custGeom>
              <a:solidFill>
                <a:srgbClr val="0053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15880" y="1344600"/>
                <a:ext cx="7958160" cy="4403160"/>
              </a:xfrm>
              <a:prstGeom prst="rect">
                <a:avLst/>
              </a:prstGeom>
              <a:solidFill>
                <a:srgbClr val="0096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Windows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应用程序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设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523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ogramming Windo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1447920"/>
            <a:ext cx="777240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</a:rPr>
              <a:t>计算机科学与技术专业选修课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任课教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Georgia"/>
              </a:rPr>
              <a:t>陆幼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信息楼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641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办公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Email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:  yllu@cs.ecnu.edu.cn  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课程内容概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04560" y="17524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介绍采用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WIN API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和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C/C++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语言开发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Windows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应用程序和动态链接库的方法，以及采用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C#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开发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Windows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应用程序的方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主要内容包括：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Windows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应用程序的基本编程模型；编程环境；资源的使用；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Windows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输入；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GDI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输出；常用控件；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DLL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编程；使用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C#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开发应用程序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课程目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38088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流行的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Windows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应用程序设计方法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VC++,VC#,JAVA 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所有这些方法都是在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API(Application Programming Interface)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上增加的一个编程层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学习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API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将使专业程序员更深入地了解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Windows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工作的方式。在原始的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API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之上的任何软件层都必定将您限制在全部功能的一个子集上。要使用全部功能，不得不使用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API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调用。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API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定义了程序员所需的一切。没有什么方法比直接使用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API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更万能的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API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方式提供最佳的性能、最强大的功能，以及在发掘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Windows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特性方面最大的灵活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开发方法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适用于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Windows X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                     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Windows Vi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                     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Windows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                     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Windows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适用操作系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11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级专业选修课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每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上课时间：  周四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8:00 –   9: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上机时间：  周二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14:50 – 16: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上课时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先修课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程序设计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要求具有较强的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C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程序设计和调试能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考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学分：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2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专业选修课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考核：  期末考试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(60%)  (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开卷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平时成绩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(40%)   [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上机作业、课堂讨论等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目  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Windows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应用程序设计引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Windows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应用程序的基本框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资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Windows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输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Windows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输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标准控件和公共控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DLL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程序设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使用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C#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开发应用程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7T05:10:54Z</dcterms:created>
  <dc:creator>luyouli</dc:creator>
  <dc:description/>
  <dc:language>en-US</dc:language>
  <cp:lastModifiedBy>lu</cp:lastModifiedBy>
  <dcterms:modified xsi:type="dcterms:W3CDTF">2012-11-22T13:17:33Z</dcterms:modified>
  <cp:revision>53</cp:revision>
  <dc:subject/>
  <dc:title>Windows应用程序设计</dc:title>
</cp:coreProperties>
</file>