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25E-89E6-498A-8FBB-3F97E85C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E80-DA36-457F-B61B-C232B7D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378-137E-4B30-BA50-2F83ED2F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16C-0429-4F11-A0F4-C1948F21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7D8F-E838-41E0-9BE0-32303DCF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B75A-C157-4E1C-8842-1C0E2EF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575-95D6-432F-A6C9-70C2D7A6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99D-DDDC-479B-B3C9-3F7E4E29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4EFF-091E-4E47-BCB3-748B25A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9A6-510F-42CE-902E-CCDEAE7A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B591-F4FB-4A2A-A734-E7974AD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107-34DE-41C2-9613-72096A6E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A75-4A66-47B3-9DE3-E613C81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294F-A156-4AF2-85EE-F01DA41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8B2A-BA80-4017-B375-63A1E566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F115-8EE8-46FA-9F21-68481BBD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3C2-2247-45DD-ADC7-6AE9C6ED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147-C419-4F28-BB92-C8A9288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F3A-EAF8-4401-824D-C2030621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050-59D1-44DC-BB48-3EE860A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0F8-4466-48B1-B7E5-09AA4BA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357-3824-4C06-B6B0-1DDEDE8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070-60F6-4C59-9623-2859F280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921-D590-49C1-B31F-81FE2D9C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E433-7A52-4F7D-B36E-4E80A65DF36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477D-3A29-44ED-81CB-DAF09CF7530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计算机辅助教育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800240" y="2895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</a:rPr>
              <a:t>殷群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</a:rPr>
              <a:t>qyin@cs.ecnu.edu.c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</a:rPr>
              <a:t>华东师范大学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cc"/>
                </a:solidFill>
                <a:latin typeface="Arial"/>
              </a:rPr>
              <a:t>计算机科学技术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课程主要内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通过本课程的学习，使学生了解计算机辅助教育的概况、内容和组成部分；熟悉计算机辅助教育的重要部分——计算机辅助教学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CAI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）；掌握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CAI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设计的方法和能力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主要内容：计算机辅助教育产生及发展概况、计算机辅助教学的基本模式及策略、课件设计及制作的原则和方法、计算机辅助教学的评价、课件制作的一般工具介绍、计算机管理教学等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主要章节内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章：计算机辅助教育概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章：计算机辅助教学模式和策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章：计算机辅助教学的课件设计和制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章：计算机辅助教育评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章：计算机辅助教育管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章：计算机辅助教学中的教学法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教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《计算机辅助教育》  张琴珠 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高等教育出版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先修课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程序设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数据结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课时安排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学分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+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前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周，每周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课时上课，后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周每周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课时上机实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考核方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平时考核（课堂练习，课堂表现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课件作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总评成绩（满分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＝平时考核（满分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＋课件作品（满分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8-12-04T06:21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