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6800"/>
            <a:ext cx="511524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C68-E840-4056-830D-17055247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3600" y="766800"/>
            <a:ext cx="5115240" cy="383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ACF1-F87B-4B38-A52A-1ADF1D40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19B-7F56-44A9-9CCB-6C514229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782-DA4C-4FC7-BE7E-58C5931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D01-CBC8-4B80-99DC-DF84F8E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CC8-E9D9-4EEE-8B7D-DC7C4FA5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7A9F-6018-451D-874E-DF777AFD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F5E4-DE72-427B-BFEB-F4BAB4AB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A9EF-CB5B-4D30-B0DE-629E8C9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8875-C37E-4FCF-BA45-D17BC10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24F3-87DC-4C62-8DD6-E841E9C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4CE3-8DFA-433D-843A-655A453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2E7-632C-4D18-B53A-4CF431B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1C7-842C-402C-8174-653666A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F199-9999-4B51-B646-5818493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014-4237-4703-AD0E-4DE79FD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34D7-CDA6-438D-AB41-ABDA6744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E81-1F14-4ACC-84F8-13BFD8E6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FB8-2760-4A25-9CE4-E23231EA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255-2CBA-4503-91BA-252FB2B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9E5-A297-409C-AF6B-868066A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64D-96E1-4A21-8D0C-B00B1F4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4BB-CEBC-4B56-954C-807F5160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79D-F4C0-42A5-8E8F-49A3AF8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23F-0DE3-412E-97BC-AF061F3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A7C-0F92-4B9A-A8A0-950FCDEA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9AD-F842-41BE-87AC-D6D57AB57D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3FC0-C05E-4EE9-8869-A1C4B78EAC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华文琥珀"/>
                <a:ea typeface="华文琥珀"/>
              </a:rPr>
              <a:t>《</a:t>
            </a:r>
            <a:r>
              <a:rPr b="1" lang="en-US" sz="4400" spc="-1" strike="noStrike">
                <a:solidFill>
                  <a:srgbClr val="006666"/>
                </a:solidFill>
                <a:latin typeface="华文琥珀"/>
                <a:ea typeface="华文琥珀"/>
              </a:rPr>
              <a:t>Web</a:t>
            </a:r>
            <a:r>
              <a:rPr b="1" lang="zh-CN" sz="4400" spc="-1" strike="noStrike">
                <a:solidFill>
                  <a:srgbClr val="006666"/>
                </a:solidFill>
                <a:latin typeface="华文琥珀"/>
                <a:ea typeface="华文琥珀"/>
              </a:rPr>
              <a:t>应用技术</a:t>
            </a:r>
            <a:r>
              <a:rPr b="1" lang="en-US" sz="4400" spc="-1" strike="noStrike">
                <a:solidFill>
                  <a:srgbClr val="006666"/>
                </a:solidFill>
                <a:latin typeface="华文琥珀"/>
                <a:ea typeface="华文琥珀"/>
              </a:rPr>
              <a:t>》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781360"/>
            <a:ext cx="684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-- </a:t>
            </a:r>
            <a:r>
              <a:rPr b="1" lang="zh-CN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华东师范大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-- </a:t>
            </a:r>
            <a:r>
              <a:rPr b="1" lang="zh-CN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计算机科学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0048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576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00720" y="4929120"/>
            <a:ext cx="3929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-- 2012</a:t>
            </a:r>
            <a:r>
              <a:rPr b="1" lang="zh-CN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 </a:t>
            </a:r>
            <a:r>
              <a:rPr b="1" lang="zh-CN" sz="3300" spc="-1" strike="noStrike">
                <a:solidFill>
                  <a:srgbClr val="006666"/>
                </a:solidFill>
                <a:latin typeface="华文琥珀"/>
                <a:ea typeface="华文琥珀"/>
              </a:rPr>
              <a:t>春季课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2342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任课教师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Verdana"/>
              </a:rPr>
              <a:t>张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Verdana"/>
              </a:rPr>
              <a:t>办公室：信息楼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628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室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Email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qzhang@cs.ecnu.edu.c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课程意义、内容和目标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586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网络对人类社会的影响深刻而广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而网站的建立和维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则是计算机专业的同学未来所面临的任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本课程全面介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建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站点的主流技术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本课程的学习，了解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的发展和现状以及该领域具有代表性的开发技术，并能用其中的技术开发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项目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先修课程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0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对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本概念有所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如选修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++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教材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程序设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.W.Sebest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华大学出版社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版为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rogramming the World Wide Web, 5th Edition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是美国科罗拉多大学计算机系的系主任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6666"/>
                </a:solidFill>
                <a:latin typeface="Arial"/>
              </a:rPr>
              <a:t>参考书目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920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.C.Jack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，清华大学出版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与开发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建红等编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华大学出版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SP.NET 3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网站开发基础教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韩颖等编著，清华大学出版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jax Bibl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. Holzn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民邮电出版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讲课大纲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  言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概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页的基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属性修饰语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表示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ML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客户端动态技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avaScrip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客户端到服务器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j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六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软的服务器端技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SP.N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七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阵营的服务器端技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S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八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数据库访问技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课时安排：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上课时间：      每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节（单周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上机实验时间：  每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66"/>
                </a:solidFill>
                <a:latin typeface="Verdana"/>
              </a:rPr>
              <a:t>考核方式：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期末闭卷考试成绩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平时作业和大作业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22:00:39Z</dcterms:created>
  <dc:creator>amonra</dc:creator>
  <dc:description/>
  <dc:language>en-US</dc:language>
  <cp:lastModifiedBy>雨林木风</cp:lastModifiedBy>
  <dcterms:modified xsi:type="dcterms:W3CDTF">2012-12-28T02:31:27Z</dcterms:modified>
  <cp:revision>181</cp:revision>
  <dc:subject/>
  <dc:title>幻灯片 1</dc:title>
</cp:coreProperties>
</file>