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DB6-DF42-44C2-80F5-1A756531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32E-8B4F-41FF-9E77-5D860E2E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943-CDC8-47DC-A9D5-5EE9EE2E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A5C-54EF-4695-8311-FA557264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15F-F711-4F45-9AAE-C13E7BA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A2F-9CB7-4C36-8252-69B90A2C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F33-0532-4670-A502-97EB2E10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D76-B204-4B92-A779-B22BA40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7FA-E00F-4A51-AD24-FA85F0A1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C9B-2E8D-42C2-B511-9162B17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689-8222-4A76-9229-D5EFB15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248-FA70-413B-BAE4-224344A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A79-6ECC-4C9D-9CA3-F4377D1DAF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797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fld id="{3635F21C-2699-453A-9780-838629094E4E}" type="slidenum">
              <a:rPr b="1" lang="zh-CN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6400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Symbol"/>
                <a:ea typeface="Symbol"/>
              </a:rPr>
              <a:t>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2002 - 20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 Lu. 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57200" y="1447920"/>
            <a:ext cx="8231040" cy="4647600"/>
            <a:chOff x="457200" y="1447920"/>
            <a:chExt cx="8231040" cy="4647600"/>
          </a:xfrm>
        </p:grpSpPr>
        <p:grpSp>
          <p:nvGrpSpPr>
            <p:cNvPr id="46" name=""/>
            <p:cNvGrpSpPr/>
            <p:nvPr/>
          </p:nvGrpSpPr>
          <p:grpSpPr>
            <a:xfrm>
              <a:off x="457200" y="1447920"/>
              <a:ext cx="8231040" cy="1096200"/>
              <a:chOff x="457200" y="1447920"/>
              <a:chExt cx="8231040" cy="1096200"/>
            </a:xfrm>
          </p:grpSpPr>
          <p:sp>
            <p:nvSpPr>
              <p:cNvPr id="47" name=""/>
              <p:cNvSpPr/>
              <p:nvPr/>
            </p:nvSpPr>
            <p:spPr>
              <a:xfrm>
                <a:off x="457200" y="1455120"/>
                <a:ext cx="136440" cy="1089000"/>
              </a:xfrm>
              <a:custGeom>
                <a:avLst/>
                <a:gdLst/>
                <a:ahLst/>
                <a:rect l="l" t="t" r="r" b="b"/>
                <a:pathLst>
                  <a:path w="86" h="913">
                    <a:moveTo>
                      <a:pt x="0" y="0"/>
                    </a:moveTo>
                    <a:lnTo>
                      <a:pt x="85" y="96"/>
                    </a:lnTo>
                    <a:lnTo>
                      <a:pt x="85" y="816"/>
                    </a:lnTo>
                    <a:lnTo>
                      <a:pt x="0" y="9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3ad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550360" y="1447920"/>
                <a:ext cx="137880" cy="1085760"/>
              </a:xfrm>
              <a:custGeom>
                <a:avLst/>
                <a:gdLst/>
                <a:ahLst/>
                <a:rect l="l" t="t" r="r" b="b"/>
                <a:pathLst>
                  <a:path w="87" h="910">
                    <a:moveTo>
                      <a:pt x="86" y="0"/>
                    </a:moveTo>
                    <a:lnTo>
                      <a:pt x="0" y="93"/>
                    </a:lnTo>
                    <a:lnTo>
                      <a:pt x="0" y="813"/>
                    </a:lnTo>
                    <a:lnTo>
                      <a:pt x="86" y="909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006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57200" y="1451160"/>
                <a:ext cx="8231040" cy="122760"/>
              </a:xfrm>
              <a:custGeom>
                <a:avLst/>
                <a:gdLst/>
                <a:ahLst/>
                <a:rect l="l" t="t" r="r" b="b"/>
                <a:pathLst>
                  <a:path w="5185" h="103">
                    <a:moveTo>
                      <a:pt x="0" y="0"/>
                    </a:moveTo>
                    <a:lnTo>
                      <a:pt x="5184" y="3"/>
                    </a:lnTo>
                    <a:lnTo>
                      <a:pt x="5093" y="102"/>
                    </a:lnTo>
                    <a:lnTo>
                      <a:pt x="88" y="10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57200" y="1573200"/>
              <a:ext cx="8231040" cy="4522320"/>
              <a:chOff x="457200" y="1573200"/>
              <a:chExt cx="8231040" cy="4522320"/>
            </a:xfrm>
          </p:grpSpPr>
          <p:sp>
            <p:nvSpPr>
              <p:cNvPr id="51" name=""/>
              <p:cNvSpPr/>
              <p:nvPr/>
            </p:nvSpPr>
            <p:spPr>
              <a:xfrm>
                <a:off x="457200" y="2188800"/>
                <a:ext cx="125280" cy="3906720"/>
              </a:xfrm>
              <a:custGeom>
                <a:avLst/>
                <a:gdLst/>
                <a:ahLst/>
                <a:rect l="l" t="t" r="r" b="b"/>
                <a:pathLst>
                  <a:path w="79" h="3274">
                    <a:moveTo>
                      <a:pt x="0" y="0"/>
                    </a:moveTo>
                    <a:lnTo>
                      <a:pt x="78" y="107"/>
                    </a:lnTo>
                    <a:lnTo>
                      <a:pt x="78" y="3166"/>
                    </a:lnTo>
                    <a:lnTo>
                      <a:pt x="0" y="32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3ad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50360" y="2117160"/>
                <a:ext cx="133200" cy="3967560"/>
              </a:xfrm>
              <a:custGeom>
                <a:avLst/>
                <a:gdLst/>
                <a:ahLst/>
                <a:rect l="l" t="t" r="r" b="b"/>
                <a:pathLst>
                  <a:path w="84" h="3325">
                    <a:moveTo>
                      <a:pt x="83" y="0"/>
                    </a:moveTo>
                    <a:lnTo>
                      <a:pt x="3" y="109"/>
                    </a:lnTo>
                    <a:lnTo>
                      <a:pt x="0" y="3233"/>
                    </a:lnTo>
                    <a:lnTo>
                      <a:pt x="83" y="3324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6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7200" y="5979960"/>
                <a:ext cx="8231040" cy="104760"/>
              </a:xfrm>
              <a:custGeom>
                <a:avLst/>
                <a:gdLst/>
                <a:ahLst/>
                <a:rect l="l" t="t" r="r" b="b"/>
                <a:pathLst>
                  <a:path w="5185" h="88">
                    <a:moveTo>
                      <a:pt x="0" y="87"/>
                    </a:moveTo>
                    <a:lnTo>
                      <a:pt x="5184" y="87"/>
                    </a:lnTo>
                    <a:lnTo>
                      <a:pt x="5095" y="0"/>
                    </a:lnTo>
                    <a:lnTo>
                      <a:pt x="89" y="0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005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92200" y="1573200"/>
                <a:ext cx="7958160" cy="44031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762120" y="1447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计算机科学技术专业选修课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Times New Roman"/>
              </a:rPr>
              <a:t>面向对象技术</a:t>
            </a:r>
            <a:r>
              <a:rPr b="1" lang="zh-CN" sz="5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5000" spc="-1" strike="noStrike">
                <a:solidFill>
                  <a:srgbClr val="ffff00"/>
                </a:solidFill>
                <a:latin typeface="Times New Roman"/>
              </a:rPr>
              <a:t>基于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++</a:t>
            </a:r>
            <a:r>
              <a:rPr b="1" lang="zh-CN" sz="5000" spc="-1" strike="noStrike">
                <a:solidFill>
                  <a:srgbClr val="ffff00"/>
                </a:solidFill>
                <a:latin typeface="Times New Roman"/>
              </a:rPr>
              <a:t>) </a:t>
            </a:r>
            <a:br>
              <a:rPr sz="5000"/>
            </a:b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双语课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0080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ct Orient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ith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Bilingual Cou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本课程的教学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通过本课程的学习和上机实习，要求学生熟练掌握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++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语言程序设计的基本方法、技能和技巧，具备独立编制、阅读和调试程序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教师应讲清基本概念，基本思想方法，通过程序实例，介绍程序设计的技能与技巧，特别注意结合程序编译情况讲解。不布置书面作业，以具有一定难度系数的上机作业代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教材和课程相关资料、讲课</a:t>
            </a:r>
            <a:r>
              <a:rPr b="0" lang="en-US" sz="2800" spc="-1" strike="noStrike">
                <a:solidFill>
                  <a:srgbClr val="ffff00"/>
                </a:solidFill>
                <a:latin typeface="宋体"/>
              </a:rPr>
              <a:t>PPT</a:t>
            </a:r>
            <a:r>
              <a:rPr b="0" lang="en-US" sz="2800" spc="-1" strike="noStrike">
                <a:solidFill>
                  <a:srgbClr val="ffff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作业和试卷为英语书写，教师讲课以汉语为主，学生的作业和答题可以选择使用英语或汉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讲授大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I       Introduction to C+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II      Introduction to Standard Template Library (ST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III     Extension to C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IV     Namespaces and Excep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V      Class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VI     Operator Overloa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VII    Derived Class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VIII   Templa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ART IX     Exception Hand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X      Class Hierarch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XI     String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ART XII    Stre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上机大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上机实习是学习本课程的一个重要环节，应十分重视。为了使程序具有较好的可移植性，建议上机作业在</a:t>
            </a:r>
            <a:r>
              <a:rPr b="1" lang="en-US" sz="3100" spc="-1" strike="noStrike">
                <a:solidFill>
                  <a:srgbClr val="ffff00"/>
                </a:solidFill>
                <a:latin typeface="宋体"/>
              </a:rPr>
              <a:t>Microsoft Visual Studio 2010 </a:t>
            </a:r>
            <a:r>
              <a:rPr b="1" lang="zh-CN" sz="3100" spc="-1" strike="noStrike">
                <a:solidFill>
                  <a:srgbClr val="ffff00"/>
                </a:solidFill>
                <a:latin typeface="宋体"/>
              </a:rPr>
              <a:t>中的 </a:t>
            </a:r>
            <a:r>
              <a:rPr b="1" lang="en-US" sz="3100" spc="-1" strike="noStrike">
                <a:solidFill>
                  <a:srgbClr val="ffff00"/>
                </a:solidFill>
                <a:latin typeface="宋体"/>
              </a:rPr>
              <a:t>C++ 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环境和</a:t>
            </a:r>
            <a:r>
              <a:rPr b="0" lang="en-US" sz="3100" spc="-1" strike="noStrike">
                <a:solidFill>
                  <a:srgbClr val="ffff00"/>
                </a:solidFill>
                <a:latin typeface="宋体"/>
              </a:rPr>
              <a:t>GNU  DEV C++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中实现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       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人一组上机，自由组合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       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约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次上机作业题，总计</a:t>
            </a:r>
            <a:r>
              <a:rPr b="0" lang="zh-CN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2</a:t>
            </a:r>
            <a:r>
              <a:rPr b="0" lang="zh-CN" sz="3100" spc="-1" strike="noStrike">
                <a:solidFill>
                  <a:srgbClr val="ffff00"/>
                </a:solidFill>
                <a:latin typeface="宋体"/>
              </a:rPr>
              <a:t>学时。</a:t>
            </a:r>
            <a:r>
              <a:rPr b="0" lang="zh-CN" sz="3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级专业选修课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每周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课时间：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3:00 – 14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机时间：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:50 – 16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上课时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考核内容和方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考核由期末开卷考试和平时成绩（包括期中开卷考试、上机作业完成情况和课堂参与情况）两部分组成，分别占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60%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和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40%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Lu You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om 641, the Information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pt. of  Computer Science &amp; Technology, EC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  yllu@cs.ecnu.edu.cn 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课程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课程类别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专业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选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内容概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介绍面向对象的程序设计方法和泛型程序设计方法，抽象性、封装性、继承性和多态性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++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语言中的实现方法。具体内容包括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OP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介绍；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++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编程环境；基本语法；程序结构；类的定义与使用；导出类与虚函数；模板和异常处理；标准模板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L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XTBOOK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Courier New"/>
              </a:rPr>
              <a:t>The C++ Programming Language (Special Ed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Bjarne Stroustr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ddison Wesley Longman, 200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BN 7-04-010095-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052280"/>
            <a:ext cx="815184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FERENCE BOOK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--   Thinking in C++ 2nd Ed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Vol1 &amp; Vol2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uce Eckel.  Prentice Hall, Inc. 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SBN 0-13-979809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--    C++ How to Program, 5th Ed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.M. Deitel , P.J. Deitel. Prentice Hall, Inc. 2006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SBN 7-115-14151-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-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roduction to Programming with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Y. Daniel Liang, Prentice Hall, Inc. 2008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SBN 978-7-111-23996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-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Programming – Principles and Pract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Using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Bjarne Stroustrup, Pearson Education,Inc.200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ISBN 978-0-321-54372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1676520"/>
            <a:ext cx="33530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666880" y="1523880"/>
          <a:ext cx="3591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3591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95480" y="1676520"/>
            <a:ext cx="33530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3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先修课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程序设计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大学英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要求具有较强的英语阅读能力。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教学大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本课程的目的、任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本课程是计算机专业学生的专业选修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通过本课程的课堂学习和上机实习，使学生掌握面向对象技术的基本概念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++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程序设计的基本原理与基本方法，培养学生使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++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语言进行程序设计的能力和系统开发能力，为后继课程的学习和从事应用开发工作打下坚实基础，特别为进行面向对象的系统开发打下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</cp:lastModifiedBy>
  <dcterms:modified xsi:type="dcterms:W3CDTF">2012-11-22T13:23:58Z</dcterms:modified>
  <cp:revision>15</cp:revision>
  <dc:subject/>
  <dc:title>PowerPoint Presentation</dc:title>
</cp:coreProperties>
</file>